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D1C00-74F5-4210-A2D7-D6DD51E8B9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76086-2BB2-44A4-BDC7-A6255E4D1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90930-6D4B-42BD-B2C1-DFA4F049D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1C449-7108-420F-ACE2-B49BDA280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07542-72D5-4A18-A5D2-DFBCE4BBF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B9AAD-2D4D-4F69-BA8F-D2BDADEE2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EDCE4-3A3C-4442-8673-740B82B4B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8F3C1-F6AB-4932-857C-E0AA4BBB5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61EA6-B1FD-4E2E-9545-BC7B6C0C2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8CBD3-261B-4202-8418-5D5BEEA9F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11E3F-B4FB-49FB-B84A-2317DE933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983-52F6-41DD-AC6A-1EC959A6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7BD-2AE2-4D97-974D-0AF4933B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3F5-C4B8-4074-87AE-C114D5A1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74B-61DA-49F4-869C-FE8193AC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A6B5-80C4-44FB-A68D-EC56361D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BA91-94C8-4067-BE53-CC1F1BE8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36B7-B2CF-4ECF-8CF6-7C1ACA64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A23C-29D0-4D8A-99A0-8D4082AF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3CE8-14B4-406F-A918-EECBCB51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77A8-4220-4B53-AF8C-37CF2220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6123-8BF6-4DD7-A1F5-95BCAFB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885-27EF-45AC-8E4F-A54DCDCA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F3F3-79C7-48D1-AC0C-96034D41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D7E3-18F4-425D-BB6B-4BB6C61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B425-A0D1-4414-832B-1B6169FC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744D-BC34-4A46-AF19-A29068C1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CC7B-D119-4DD9-A278-25E12D89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88838-59EE-4332-BE4A-8C05A309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0E21-7BBB-457C-95B4-A1819DB3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9ED2-AD59-481B-9031-D3E91D32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903B-9297-4ECA-AEEA-DC184B87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CDB8-3AF5-4557-BB0C-56F46601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DBB-25B8-4BE9-94D2-4477C18D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9C3F-18D9-4B19-AD22-1F992B68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C4F8-A43B-4CC6-B5AB-2D8ED5D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BEFC2-F080-4A1E-B4EB-E7126495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29079-712D-4EB5-AE34-0B7F994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7641-1CB2-4291-994F-8FFE8148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E699-81F8-4408-B5E2-CC06271F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3C3C-2A5F-4CC0-AD5F-13AB2444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30BD-7574-49EB-923A-9D2C58FC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2BCF-DC4E-46FC-A08E-69DD0897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61218-C766-4A64-B6CC-F5C03A80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3E5-A2B1-4A8D-A097-B1FB8E9D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71EC-B7F8-4BC8-A697-4A837472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9D7D-7EF6-4B38-9983-AAE0E419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40D3A-D430-459C-912F-3F247158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B6E4E-99C3-4675-BA0E-647347E3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5801E-AD2E-47C7-BC4B-8F7080D2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F0BE3-0FC2-4197-A2AD-36901900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71AD6-7648-4E32-B56E-090B1866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50B8E-760D-43CE-8DE7-3FE6B06B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36C29-8E20-4E0B-A9B6-291FC422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FDB3-7EEF-45D5-8BAB-353DE74D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8EE-3E8A-4584-8788-35DE5118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BBFF5-E9C4-42DB-BD99-C854EEF2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57843-B48E-4FA6-99A9-A39C3F9D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81557-8FE5-4A48-9C78-956D2C4B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CFAB7-C789-42C1-96CF-1AF91A38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F6926-B7A9-46DD-AB41-79056B24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3DEB9-DC07-46BC-A5ED-B4E9FA08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4DFA3-C641-4508-9E05-E55342F1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43CFC-1076-433E-BA84-E83D61D7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3B067-32AC-4512-B9BC-66FF84B0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84BCF-5411-4F86-BAEB-26552A59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24B-B758-4C0B-9BD2-D11AB9DB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9566D-8324-415E-B3BF-43621878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F558A-2BBD-4312-B316-5B3D96A3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01D63-521A-4B54-AA4C-D2FD324E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8EDB7-3A3F-48DC-8524-C1875E31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38D59-7382-48B9-ABED-F0C7AE98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6C246-D04B-46F2-855E-1BF91FBC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0C7EC-E8EA-4208-9F93-99D84A01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B91FD-AF49-4B42-B339-FF55535D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5B88B-0D5E-48BA-AF01-8FF2CEE3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C2EE8-3153-46A7-AAC9-86A7A08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3F0-8CE7-4297-8E81-14C10DA6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346E8-42E1-47A6-8AE4-D027EE4E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2F9A6-8DD4-4655-BCD2-D98E74EA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AA51E-8E56-4876-8FE4-D36CE56F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15CE3-53EE-4511-AB13-9A42B92B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DEA77-DF51-432E-A9F2-09D08CCE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F4288-710D-442B-B9BA-CE9CFDE9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F60A1-86C0-4AFD-9C6B-32091343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F2F4E-DFD8-49F0-8CC6-716B1E79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287F7-0CCC-4C47-B05B-20C49F78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5796E-E763-4D8E-9FA0-B918C5B9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455-9794-4FC6-8426-FB090E8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F2612-81C9-4ECF-959B-8CC56E4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AC1AA-0E68-49A9-93B9-A629753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F19F3-DB35-4AD9-9AB8-96924099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36740-773F-4BC3-889A-2BC7722F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24154-F8A1-49EC-BEC1-9F99ABAA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317CF-92D6-487E-8C7E-FA4A9791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5FD19-8E39-4539-A250-987FDD24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A107C-E78D-4324-961F-42BDFCA0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0D064-C571-44A6-B097-71D79A4A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F195E-919E-4932-871F-9012FA25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CB4-71E7-445E-B3BA-C241D2B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DEC76-D618-4D86-B748-43839EFA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72D6B-8177-414F-914A-4A1FA045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D7258-9FF0-47AE-851B-9318045D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B5BD9-0EB6-4158-8D95-F7E39613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85DDA-85AE-42DE-B1E9-C8EE98E8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B01C8-4F4C-49B8-B3E7-F47936BA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D3F80-6D99-4A55-8714-18CF26CE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E6305-AE4D-4767-BEE8-098E639DFD11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4BF96-174C-4F31-BB50-ECB433C32BD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573BA-706F-469E-A766-ABEEEAF6FEDE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DCC61-BDB0-4A5C-99F2-E8B48628DEA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1F2D3-E9B6-4957-A908-B908E88EBB09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AB47F-B57F-4663-8F5F-C4AEE85CC57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96EAD-C5C8-4DA4-B488-747F16ABEBF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91DAF-862B-4E7B-B203-01D309D14D1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25C72-C16D-4922-BE3B-EF590233BC89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13261-1247-4220-98F4-7A86F96325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7020C-B0BE-4E54-BDAF-9B2EA2DE560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833F8-C498-402A-9730-27598EAE7BC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FBEF4-343B-432E-B218-14DFBD53222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2F325-5E01-4241-AB50-A174C3DDB3D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6AB62-5541-4381-A6D0-F35DF1911C09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D0E7A-4BD4-464F-8C27-417AAECE563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filibustercartoons.com/nikit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archives.cnn.com/2000/US/03/31/cuba.boy.02/map.florida.cuba.miami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uventudrebelde.cu/UserFiles/Image/2006/agosto/fidel-castro/fidel-castro-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028840" y="960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o Now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the tips and tricks for analyzing a political carto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n, analyze the meaning and symbols of the political cartoon on your worksheet. Be as detailed as possi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1026" descr=""/>
          <p:cNvPicPr/>
          <p:nvPr/>
        </p:nvPicPr>
        <p:blipFill>
          <a:blip r:embed="rId1"/>
          <a:stretch/>
        </p:blipFill>
        <p:spPr>
          <a:xfrm>
            <a:off x="225360" y="378000"/>
            <a:ext cx="8925120" cy="1096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28" descr="nikit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960480"/>
            <a:ext cx="5205240" cy="55926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2568600" y="3096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607000" y="5532480"/>
            <a:ext cx="330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What is t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ain idea her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President Kennedy announced that American warships would stop any Soviet ship carrying missi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Picture 3" descr="Armwrestling"/>
          <p:cNvPicPr/>
          <p:nvPr/>
        </p:nvPicPr>
        <p:blipFill>
          <a:blip r:embed="rId1"/>
          <a:srcRect l="2284" t="8038" r="8149" b="5741"/>
          <a:stretch/>
        </p:blipFill>
        <p:spPr>
          <a:xfrm>
            <a:off x="304920" y="925560"/>
            <a:ext cx="868356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nyt1"/>
          <p:cNvPicPr/>
          <p:nvPr/>
        </p:nvPicPr>
        <p:blipFill>
          <a:blip r:embed="rId1"/>
          <a:srcRect l="5900" t="3781" r="0" b="27016"/>
          <a:stretch/>
        </p:blipFill>
        <p:spPr>
          <a:xfrm>
            <a:off x="1066680" y="228600"/>
            <a:ext cx="7778880" cy="449568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3"/>
          <p:cNvSpPr/>
          <p:nvPr/>
        </p:nvSpPr>
        <p:spPr>
          <a:xfrm>
            <a:off x="0" y="5029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ult:  President Kennedy blockaded Cuba and forced the Soviets to remove the missiles.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3"/>
          <p:cNvSpPr/>
          <p:nvPr/>
        </p:nvSpPr>
        <p:spPr>
          <a:xfrm>
            <a:off x="5257800" y="175248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viet Leader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kita Khrushche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Picture 4" descr="1101610908_400"/>
          <p:cNvPicPr/>
          <p:nvPr/>
        </p:nvPicPr>
        <p:blipFill>
          <a:blip r:embed="rId1"/>
          <a:stretch/>
        </p:blipFill>
        <p:spPr>
          <a:xfrm>
            <a:off x="0" y="6480"/>
            <a:ext cx="5200560" cy="6851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5522760" y="442800"/>
            <a:ext cx="3426120" cy="1005120"/>
          </a:xfrm>
          <a:prstGeom prst="rect">
            <a:avLst/>
          </a:prstGeom>
          <a:ln w="0">
            <a:noFill/>
          </a:ln>
        </p:spPr>
      </p:pic>
      <p:sp>
        <p:nvSpPr>
          <p:cNvPr id="417" name="TextBox 4"/>
          <p:cNvSpPr/>
          <p:nvPr/>
        </p:nvSpPr>
        <p:spPr>
          <a:xfrm>
            <a:off x="5743440" y="3336840"/>
            <a:ext cx="32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Known Fo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is enthusiastic belief that Communism would triumph over capitalism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nikita"/>
          <p:cNvPicPr/>
          <p:nvPr/>
        </p:nvPicPr>
        <p:blipFill>
          <a:blip r:embed="rId1"/>
          <a:stretch/>
        </p:blipFill>
        <p:spPr>
          <a:xfrm>
            <a:off x="0" y="1440"/>
            <a:ext cx="4570560" cy="68565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"/>
          <p:cNvSpPr/>
          <p:nvPr/>
        </p:nvSpPr>
        <p:spPr>
          <a:xfrm>
            <a:off x="4572000" y="0"/>
            <a:ext cx="4572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I found myself in the difficult position of having to decide on a course of action which would answer the American threat but which would also avoid war.  Any fool can start a war, and once he's done so, even the wisest of men are helpless to stop it-- especially if its a nuclear war.”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Nikita Khrushche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1"/>
          <p:cNvSpPr/>
          <p:nvPr/>
        </p:nvSpPr>
        <p:spPr>
          <a:xfrm>
            <a:off x="944640" y="487440"/>
            <a:ext cx="75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lairMdITC TT Medium"/>
              </a:rPr>
              <a:t>Perspectives Activity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523880" y="2263680"/>
          <a:ext cx="6096240" cy="3276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omebody Wanted to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But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o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7621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: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uba, Soviet Union, United St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139760" y="133200"/>
            <a:ext cx="6943680" cy="1530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m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8520" y="2189160"/>
            <a:ext cx="5867280" cy="4476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4"/>
          <a:stretch/>
        </p:blipFill>
        <p:spPr>
          <a:xfrm>
            <a:off x="6740640" y="3459240"/>
            <a:ext cx="1904760" cy="28573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5"/>
          <p:cNvSpPr/>
          <p:nvPr/>
        </p:nvSpPr>
        <p:spPr>
          <a:xfrm>
            <a:off x="6969240" y="26146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JUST KEEP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WIMMING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0" y="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59, a young Fidel Castro led a communist revolution in Cuba, causing thousands of Cubans to flee to the United Stat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Picture 3" descr="fidel-castro-4">
            <a:hlinkClick r:id="rId1"/>
          </p:cNvPr>
          <p:cNvPicPr/>
          <p:nvPr/>
        </p:nvPicPr>
        <p:blipFill>
          <a:blip r:embed="rId2"/>
          <a:srcRect l="13233" t="2721" r="14682" b="10400"/>
          <a:stretch/>
        </p:blipFill>
        <p:spPr>
          <a:xfrm>
            <a:off x="5410080" y="914400"/>
            <a:ext cx="3025800" cy="5484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young_castro_2"/>
          <p:cNvPicPr/>
          <p:nvPr/>
        </p:nvPicPr>
        <p:blipFill>
          <a:blip r:embed="rId3"/>
          <a:stretch/>
        </p:blipFill>
        <p:spPr>
          <a:xfrm>
            <a:off x="304920" y="914400"/>
            <a:ext cx="4122720" cy="54864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5"/>
          <p:cNvSpPr/>
          <p:nvPr/>
        </p:nvSpPr>
        <p:spPr>
          <a:xfrm>
            <a:off x="304920" y="6338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del Castro, 195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334120" y="6338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del Castro, 200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y of Pigs Invas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The U.S. became worried as Cuba received increased amounts of aid from the Soviet Un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0" y="1905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1961, President John F. Kennedy approved of a plan by the CIA to overthrow Castro’s government with the help of Cub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i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5" descr="Image:BayofPigs.jpg"/>
          <p:cNvPicPr/>
          <p:nvPr/>
        </p:nvPicPr>
        <p:blipFill>
          <a:blip r:embed="rId1"/>
          <a:stretch/>
        </p:blipFill>
        <p:spPr>
          <a:xfrm>
            <a:off x="0" y="3289320"/>
            <a:ext cx="9140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1638360" y="1447920"/>
            <a:ext cx="6367320" cy="45036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-1140480" y="612720"/>
            <a:ext cx="120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 Condensed"/>
              </a:rPr>
              <a:t>Why do you feel Cuban exiles were chosen to assist in this mission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The exiles landed at the Bay of Pigs in Southern Cuba where they were easily defeated by Cuban forces, strengthening Fidel Castro and embarrassing the United Stat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Picture 3" descr="castro-1"/>
          <p:cNvPicPr/>
          <p:nvPr/>
        </p:nvPicPr>
        <p:blipFill>
          <a:blip r:embed="rId1"/>
          <a:stretch/>
        </p:blipFill>
        <p:spPr>
          <a:xfrm>
            <a:off x="0" y="1374840"/>
            <a:ext cx="6664320" cy="54831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6629400" y="206856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del Castro, parading through the streets of Havana after his victory against Cuban expatriates in the Bay of Pigs invasion. (1961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222120" y="87156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ヒラギノ角ゴ Pro W3"/>
              </a:rPr>
              <a:t>Two of the ships were sunk, including the ship that was carrying most of the suppli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ヒラギノ角ゴ Pro W3"/>
              </a:rPr>
              <a:t>Two of the planes that were attempting to give                air-cover were also shot down. Within 72hours all the invading troops had been killed, wounded or had surrendered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521000" y="49536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ple Chancery"/>
              </a:rPr>
              <a:t>Some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NOT SO GREAT </a:t>
            </a:r>
            <a:r>
              <a:rPr b="0" lang="en-US" sz="2800" spc="-1" strike="noStrike">
                <a:solidFill>
                  <a:srgbClr val="000000"/>
                </a:solidFill>
                <a:latin typeface="Apple Chancery"/>
              </a:rPr>
              <a:t>Results. . .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4667400" y="3917880"/>
            <a:ext cx="3809880" cy="2793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5"/>
          <p:cNvSpPr/>
          <p:nvPr/>
        </p:nvSpPr>
        <p:spPr>
          <a:xfrm>
            <a:off x="743040" y="43448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Fidel watching the Bay of Pig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From a tank near Playa Grio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0" y="4503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mericans, two of whom were eventually executed, are arrested in April 1961. They were accused by the Cuban government of smuggling guns to anti-Communist rebels a few days before the Bay of Pigs invas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4" descr="eeis_01_img0095%5B1%5D"/>
          <p:cNvPicPr/>
          <p:nvPr/>
        </p:nvPicPr>
        <p:blipFill>
          <a:blip r:embed="rId1"/>
          <a:stretch/>
        </p:blipFill>
        <p:spPr>
          <a:xfrm>
            <a:off x="1143000" y="179280"/>
            <a:ext cx="69469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5181480" y="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uban            Missile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5181480" y="121932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viet Union began to build missile bases in Cuba, worrying Americans that we were vulnerable to attack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4" descr="cuban_missile_crisis"/>
          <p:cNvPicPr/>
          <p:nvPr/>
        </p:nvPicPr>
        <p:blipFill>
          <a:blip r:embed="rId1"/>
          <a:stretch/>
        </p:blipFill>
        <p:spPr>
          <a:xfrm>
            <a:off x="0" y="0"/>
            <a:ext cx="51372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2:03:42Z</dcterms:created>
  <dc:creator>NYCDOE</dc:creator>
  <dc:description/>
  <dc:language>en-US</dc:language>
  <cp:lastModifiedBy>NYCDOE</cp:lastModifiedBy>
  <dcterms:modified xsi:type="dcterms:W3CDTF">2012-04-19T14:29:11Z</dcterms:modified>
  <cp:revision>3</cp:revision>
  <dc:subject/>
  <dc:title>Aim (L51):  How did the Cuban Missile Crisis increase Cold War tensions? </dc:title>
</cp:coreProperties>
</file>